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21B6-D4C0-471A-98EA-850AB0CD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733-FBA7-44A7-A9C8-8B27EB71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55FD-6612-40D1-8CA5-816ACCF6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7EE2-83FD-458B-BEC4-F7BAA61F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4402-D36F-4559-A9F3-25923FE2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4504-8336-47CE-ADBF-564B6DB8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E244-CF99-4C18-A5F8-C76F9953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CB76-C5D9-49FA-B7C4-33D48D43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E523-0842-4B98-BCFC-202D7BA3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B1B3-5633-4541-91E5-35CCD6B3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645C-3AEC-40B0-86F2-CB1A750A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2DE-F9F3-40BC-97EE-EC3E1AFC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64FE-61D0-432C-AC58-4F296750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ED72-8849-405E-9905-BA6DF64B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76B7-7BB3-4DB4-8AC6-D781319C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07AC-3DE0-40DD-9352-E1BA87FA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824C-5819-4726-9EF4-8719BE27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64E9-C6FA-4BEE-91CA-F8874C30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F0B6-5320-458E-BCB0-E052FCF0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3CA1-7092-4338-9BA3-FB82C4ED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F058-1A3D-4455-BAFB-4D3B5312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3EF3-AD9C-41FC-A132-D373C342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659F-DE34-4B73-BCA4-5C032670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3628-FD8C-44B5-BC0C-A14AA4F1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501B-DCE6-4F44-9565-7C939E049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D5E4-D237-4A85-AA18-70BD8131E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a26d18"/>
                </a:solidFill>
                <a:latin typeface="RotisSerif"/>
              </a:rPr>
              <a:t>Gli </a:t>
            </a:r>
            <a:r>
              <a:rPr b="1" i="1" lang="it-IT" sz="5400" spc="-1" strike="noStrike">
                <a:solidFill>
                  <a:srgbClr val="a26d18"/>
                </a:solidFill>
                <a:latin typeface="RotisSerif"/>
              </a:rPr>
              <a:t>eroi</a:t>
            </a:r>
            <a:r>
              <a:rPr b="1" lang="it-IT" sz="5400" spc="-1" strike="noStrike">
                <a:solidFill>
                  <a:srgbClr val="a26d18"/>
                </a:solidFill>
                <a:latin typeface="RotisSerif"/>
              </a:rPr>
              <a:t> della conoscenza</a:t>
            </a:r>
            <a:br>
              <a:rPr sz="5400"/>
            </a:br>
            <a:r>
              <a:rPr b="1" lang="it-IT" sz="4000" spc="-1" strike="noStrike">
                <a:solidFill>
                  <a:srgbClr val="a26d18"/>
                </a:solidFill>
                <a:latin typeface="RotisSerif"/>
              </a:rPr>
              <a:t>nel Settecento sardo</a:t>
            </a:r>
            <a:r>
              <a:rPr b="1" lang="it-IT" sz="5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3520" y="3860280"/>
            <a:ext cx="8286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RotisSerif"/>
              </a:rPr>
              <a:t>a cura del </a:t>
            </a:r>
            <a:r>
              <a:rPr b="0" i="1" lang="it-IT" sz="3200" spc="-1" strike="noStrike">
                <a:solidFill>
                  <a:srgbClr val="000000"/>
                </a:solidFill>
                <a:latin typeface="RotisSerif"/>
              </a:rPr>
              <a:t>Centro di studi filologici sar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RotisSerif"/>
              </a:rPr>
              <a:t>con il Patrocinio dell’Assessorato Regionale all’Agricoltura e alle Riforme Agro-pastor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Gli </a:t>
            </a:r>
            <a:r>
              <a:rPr b="1" i="1" lang="en-US" sz="4400" spc="-1" strike="noStrike">
                <a:solidFill>
                  <a:srgbClr val="a26d18"/>
                </a:solidFill>
                <a:latin typeface="Times New Roman"/>
              </a:rPr>
              <a:t>eroi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della conoscenza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05520" y="134100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’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cono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mografia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9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26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8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45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buiti in 24.000 Km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e di comunicazione: risib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o delle terre: incol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manenza del sistema feud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700280"/>
            <a:ext cx="40323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7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aggio dalla dominazione spagnola a quella piemontese con la breve parentesi austri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3280" y="170028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6360" y="373860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22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48360" y="19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005360"/>
            <a:ext cx="424980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Diri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arta de Logu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(1392 – Eleonora d’Arbor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ammatiche spagnole ed editti piemont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dice feliciano (18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27640" y="3933720"/>
            <a:ext cx="471636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in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ozione dello spagnolo da parte dei Piemont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mozione dell’ital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orizzazione del sardo anche per usi letter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Gli </a:t>
            </a:r>
            <a:r>
              <a:rPr b="1" i="1" lang="en-US" sz="4400" spc="-1" strike="noStrike">
                <a:solidFill>
                  <a:srgbClr val="a26d18"/>
                </a:solidFill>
                <a:latin typeface="Times New Roman"/>
              </a:rPr>
              <a:t>eroi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della conoscenza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testo: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ecolo dei Lumi in Euro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isola aveva in quegli anni cominciato a svegliarsi dal suo torpore: il baronaggio era stato un po’ indebolito, la classe borghese si era un po’ accresciuta e si era in parte aperta alla nuova cultura illuministica; anche la statica situazione delle campagne cominciò ad essere intaccata almeno in alcune zone; si preparava insomma anche in Sardegna una situazione di crisi che esplose poi violentemente negli anni 1793-96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(G. Candeloro, </a:t>
            </a: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Storia dell’Italia moderna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, Milano, Feltrinelli, 1966, p. 98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sigenza didattica in Sardegn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iffusione della conosc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ntroduzione di nuove tecniche nei mesti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Gli </a:t>
            </a:r>
            <a:r>
              <a:rPr b="1" i="1" lang="en-US" sz="4400" spc="-1" strike="noStrike">
                <a:solidFill>
                  <a:srgbClr val="a26d18"/>
                </a:solidFill>
                <a:latin typeface="Times New Roman"/>
              </a:rPr>
              <a:t>eroi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della conoscenza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ttere pastorali dei vescovi sard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citare il clero alla dottr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formare e sostenere i fedel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l’uso delle moderne tecniche agric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far crescere la coscienza di s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ritualmente ma anche materi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Gli </a:t>
            </a:r>
            <a:r>
              <a:rPr b="1" i="1" lang="en-US" sz="4400" spc="-1" strike="noStrike">
                <a:solidFill>
                  <a:srgbClr val="a26d18"/>
                </a:solidFill>
                <a:latin typeface="Times New Roman"/>
              </a:rPr>
              <a:t>eroi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della conoscenza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Gli Aut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drea Manca dell’Arca,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gricoltura di Sardegn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17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menico Simon,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Le piant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17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aimondo Valle,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I tonn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18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ietro Antonio Leo,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Di alcuni antichi pregiudizii sulla così detta Sarda intemperi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18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rancesco Carboni,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De sardoa intemperi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177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ian Andrea Massala,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Programma d’un giornale di varia letteratura ad uso de’ sard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180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iuseppe Cossu,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a coltivazione de’ gelsi e propagazione de’ filugelli in Sardegn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178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Gli </a:t>
            </a:r>
            <a:r>
              <a:rPr b="1" i="1" lang="en-US" sz="4400" spc="-1" strike="noStrike">
                <a:solidFill>
                  <a:srgbClr val="a26d18"/>
                </a:solidFill>
                <a:latin typeface="Times New Roman"/>
              </a:rPr>
              <a:t>eroi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della conoscenza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ensor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Oggi vi ho chiamato, caro mio contadino, per ispiegarvi qualche cosa intorno alle malattie delle pia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Agricoltor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E a me pare, sig. Censore, che voglia in quest’oggi corbellarmi, e divertirsi, come si suol dire, a spese mie. Chi mai ha udito parlare di malattie di piante? E dove sono i medici, e chirurghi di ques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ensor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Ascoltate di grazia attentamente, e poi giudicherete voi stesso, se io dico cose da burla. Le piante, come sapete, nascono da semenza, crescono, invecchiano, e poi muoiono: le piante si nutriscono assorbendo dalla terra quelle particelle, che lor convengono, per mezzo delle radici, e da queste il sugo nutrizio, che scorre per molti canali, e cellette, di cui sono composte le piante, accrescimento delle medesime, e ciò, che vi è d’inutile, o escrementizio, viene gettato fuori, e per mezzo dei pori in forma di traspirazione , e per mezzo di certi canaletti. Dunque le piante son corpi, che vivono: e perché vi parrà cosa strana, che un corpo vivente soffra delle malattie, cioè a dire dei sconcerti nella sua macchina? I medici, e chirurghi delle piante sonovi sempre stati in tutti i tempi, e tuttora sussistono, e sono quei buoni agricoltori, li sanno togliere dalle medesime tutto ciò, che le offen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61657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a26d18"/>
                </a:solidFill>
                <a:latin typeface="Times New Roman"/>
              </a:rPr>
              <a:t>Giuseppe Cossu, </a:t>
            </a:r>
            <a:r>
              <a:rPr b="1" i="1" lang="it-IT" sz="1800" spc="-1" strike="noStrike">
                <a:solidFill>
                  <a:srgbClr val="a26d18"/>
                </a:solidFill>
                <a:latin typeface="Times New Roman"/>
              </a:rPr>
              <a:t>La coltivazione de’ gelsi e propagazione de’ filugelli in Sarde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Gli </a:t>
            </a:r>
            <a:r>
              <a:rPr b="1" i="1" lang="en-US" sz="4400" spc="-1" strike="noStrike">
                <a:solidFill>
                  <a:srgbClr val="a26d18"/>
                </a:solidFill>
                <a:latin typeface="Times New Roman"/>
              </a:rPr>
              <a:t>eroi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della conoscenza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310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Né s’offendant’is damas, e segnora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ch’in linguaggiu patriu imoi cumpong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Chi serbi po isplicairi a is serbido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Is utilis prezettus, chi propongu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Dus imparin cantendu a zertas ora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Chi po custu cantabilis dus pong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Cantinti in logu e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i Turcu Mo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Su ch’innoi scriu a utilidadi insor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 sa campagna gratus resplendo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Candu soli beneficu dispensa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Candu terra produsi bellus flori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Chi varia primavera già cumensa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Candu cun Venus, Grazias, ed Amo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Stanti, e messaiu a fogu prus no pens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Virgini Sarda, scurtamì, chi tan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ppuntu depis fai su chi cuman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Su chi tui conservesti in pann’e li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Semini de bigattu in situs bel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Du depis ponni in su callenti si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In parti prus interna de is gravel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Custu de dì; de notti a su cosci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niddu sutta, cantu podis mell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Chini de dì in s’affettu logu ha tent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De notti d’hat a tenni in pensamentu.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19640" y="1557360"/>
            <a:ext cx="3168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é s’offendan le dame, e le sign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erch’in patrio linguaggio or io compong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he serve per spiegare al servi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gli utili precetti, che propong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 serve questi imparino a cert’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ntando, che cantabili li pon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 vece cantin di 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Rei Turcu Mor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iò che qui scrivo a utilitade lo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 la campagna i grati suoi splend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llorché sol benefico dispens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llorché primavera di bei fi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parge ridente un’onorata mens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llorché stan con Venere gli Amor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 ’l contadino a fuoco più non pens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ergine Sarda, ascoltami, che all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ppunto devi far ciò che dic’o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lla che tu serbasti in panno lin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menza di bigatto1, in siti be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l virgineo tuo seno a lo scald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 gradato calor metterla de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o di giorno; sotto del cusc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nla di notte, allor che a letto se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hi di giorno ebbe luogo ne l’affett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avrà di notte nel pensiere a lett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624852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a26d18"/>
                </a:solidFill>
                <a:latin typeface="Times New Roman"/>
              </a:rPr>
              <a:t>Antonio Purqueddu, </a:t>
            </a:r>
            <a:r>
              <a:rPr b="1" i="1" lang="it-IT" sz="1800" spc="-1" strike="noStrike">
                <a:solidFill>
                  <a:srgbClr val="a26d18"/>
                </a:solidFill>
                <a:latin typeface="Times New Roman"/>
              </a:rPr>
              <a:t>De su tesoru de sa Sardi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Gli </a:t>
            </a:r>
            <a:r>
              <a:rPr b="1" i="1" lang="en-US" sz="4400" spc="-1" strike="noStrike">
                <a:solidFill>
                  <a:srgbClr val="a26d18"/>
                </a:solidFill>
                <a:latin typeface="Times New Roman"/>
              </a:rPr>
              <a:t>eroi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della conoscenza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vite si divide principalmente pel colore de’ suoi frutti in bianca, negra e rossa, ed ognuna di queste si subdivide abbondante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ve bian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Muscadell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uva gentile, primitiva, di grani roton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Barrigadorgi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uva gentile, tardiva, di grani rotondi e delic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orrud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gentile, tardiva, di grappi piccoli e grani sottili lungh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Malvasi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di grani alquanto lunghi, fa vino gent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ve n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Ziron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uva gentile di grani rotondi, primiti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Muristell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di grani rotondi e folti: uva tardi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Pascal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di grani rotondi, grossi e racemo gran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Trigi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di grani rotondi e duri, tardi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ve di color rosseggi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Muscadella ruju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simile alla bianca nella grandezza de’ racemi e gra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Zirone barzu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simile al negro in tutto, a riserva del col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616572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26d18"/>
                </a:solidFill>
                <a:latin typeface="Times New Roman"/>
              </a:rPr>
              <a:t>Andrea Manca dell’Arca, </a:t>
            </a:r>
            <a:r>
              <a:rPr b="1" i="1" lang="en-US" sz="1800" spc="-1" strike="noStrike">
                <a:solidFill>
                  <a:srgbClr val="a26d18"/>
                </a:solidFill>
                <a:latin typeface="Times New Roman"/>
              </a:rPr>
              <a:t>Agricoltura di Sarde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4:49:24Z</dcterms:created>
  <dc:creator>simona</dc:creator>
  <dc:description/>
  <dc:language>en-US</dc:language>
  <cp:lastModifiedBy>user</cp:lastModifiedBy>
  <dcterms:modified xsi:type="dcterms:W3CDTF">2005-06-27T11:30:50Z</dcterms:modified>
  <cp:revision>11</cp:revision>
  <dc:subject/>
  <dc:title>Gli eroi della conoscenza </dc:title>
</cp:coreProperties>
</file>